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jpeg" ContentType="image/jpeg"/>
  <Override PartName="/ppt/media/image21.jpeg" ContentType="image/jpe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DB9-F17A-4ACC-BF7A-B9314C2D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B66-CB12-48A2-8C18-A7D5EF7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7A0-AC2A-4F1B-9EE8-94AF3EF1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0A6-2DE1-4126-9EF6-C59D9534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BF67-9CE4-4FF4-BDDF-94804AB5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89D0-16EB-4480-A5E2-E954ABA9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27BE-F781-4234-B9BB-CFD3CA86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9421-E691-49FA-B3CA-8F63693C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6C29-9ADC-4554-BB97-68D9FE6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6F9B-164A-4723-AC4F-46E2F971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9088-13C0-45CF-92F8-6ADC0CD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E53-B06B-438E-9742-D91F882A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036E-F3EF-4396-8EE1-21BDA13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BFA7-49B2-4B97-9E1B-35E5DD0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98BC-9D91-48CE-BA4F-6A294301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C35B-09F8-4DF6-9093-153FEBF2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9CD9-B46C-489B-B54B-C7D16592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E147-2E5D-474B-92F3-1E86307C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53DF-4F95-43B0-A3DD-9D8D85B6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7BD5-6CA7-44B3-B172-C699E41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2A58-F927-4332-8F22-4B1706F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DB2C-BD42-4AB2-816A-6EB7B2C6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594-A6C1-4D3F-836B-36005503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2B98-7DC1-4F97-AB1C-7E0C1F46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675F-612C-4813-8352-E5A2552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3887-93C9-41C8-8E47-49C8DC3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5C69-1404-48FD-B3FA-5543F151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FB49-5A3F-4166-909B-EBDEEFA0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7C83-D9BB-43EA-97B7-40A385F3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F666-5FA4-4C3F-BDB5-96C8F093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440-3C56-4859-AC24-514A22B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FFD-5FF2-4799-8D96-0E68B79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11A-C9D7-45F0-92DE-F89DC06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024-F41C-4AF8-8904-DF8C74C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47C-F4F9-4598-9C89-5F3FD90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C19-919D-4D89-8077-25C77798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6BE-6E59-427B-AC1A-4BD6F5F17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0" y="649296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3A7-A2DD-4BBB-A4D6-FE88FFBEA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000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ff8000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8e8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0" y="649296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FD9C-0986-426A-8377-0F54C2381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785000" cy="148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47920" y="579132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By Luis A Ramirez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de in cooperation with Liger in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http://www.genistra.com/wp-content/uploads/2009/09/Chinese-Zodiac.gif"/>
          <p:cNvPicPr/>
          <p:nvPr/>
        </p:nvPicPr>
        <p:blipFill>
          <a:blip r:embed="rId2"/>
          <a:stretch/>
        </p:blipFill>
        <p:spPr>
          <a:xfrm>
            <a:off x="1676520" y="1143000"/>
            <a:ext cx="5283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fmalany.comuf.com/CIS2281/ChineseZodiac/images/Zodiac_Lg/ho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People born in the year of the horse are popular (I didn’t know a whole age group could be popul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y are good with their h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re also suckers for the opposite gen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y are also very independent and don’t listen to ad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fmalany.comuf.com/CIS2281/ChineseZodiac/images/Zodiac_Lg/ra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54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eople born sheep are said to be elegant and talented in the 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t first they seem better then most of the other zodiac animals but sheep can be shy, puzzled by life and highly pessimis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Yet sheep never really have to worry about how to make money because there abilities make money for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fmalany.comuf.com/CIS2281/ChineseZodiac/images/Zodiac_Lg/monk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ever, skillful and, inventive monkeys are geniuses at he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Monkey people are original and can solve the most difficult problem with 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Monkey people want to do things immediately if they don’t they get discouraged and leave their pro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fmalany.comuf.com/CIS2281/ChineseZodiac/images/Zodiac_Lg/rooster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60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People of the year of the rooster are deep thinkers, capable and talen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 like to be busy and are devoted beyond their capab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f they fail at anything they try or it doesn’t go as best as they wanted they very dissapoin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fmalany.comuf.com/CIS2281/ChineseZodiac/images/Zodiac_Lg/dog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63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2157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1578"/>
                </a:solidFill>
                <a:latin typeface="Calibri"/>
              </a:rPr>
              <a:t>People born the year of the dog have the best traits of the human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2157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1578"/>
                </a:solidFill>
                <a:latin typeface="Calibri"/>
              </a:rPr>
              <a:t>They have a deep sense of loyalty and inspire confidence because they can keep secr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21578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1578"/>
                </a:solidFill>
                <a:latin typeface="Calibri"/>
              </a:rPr>
              <a:t>But dog people can be slightly selfish and are extremely stubbo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fmalany.comuf.com/CIS2281/ChineseZodiac/images/Zodiac_Lg/p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People of the year of the pig are gallant and chivalr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Whatever they do they will do it with all their strength and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They have tremendous fortitude and great hone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44c9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4c9"/>
                </a:solidFill>
                <a:latin typeface="Calibri"/>
              </a:rPr>
              <a:t>Pigs don’t make many friends but the ones they do are for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Title 1" descr=""/>
          <p:cNvPicPr/>
          <p:nvPr/>
        </p:nvPicPr>
        <p:blipFill>
          <a:blip r:embed="rId2"/>
          <a:stretch/>
        </p:blipFill>
        <p:spPr>
          <a:xfrm>
            <a:off x="378000" y="-6480"/>
            <a:ext cx="8235720" cy="11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re are 12 signs in the Chinese Zodi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Every year it rotates to the next animal if the year was the year of the horse it goes to the year of the sh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3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  order starts with the rat then moves on to the ox then to the tiger so on and so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i-chinastyle.com/wp-content/uploads/2010/03/chinese_zodia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alibri"/>
              </a:rPr>
              <a:t>Like the Western Zodiac It has twelve Parts except instead of changing every month they change every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alibri"/>
              </a:rPr>
              <a:t>It is a stereotype that this zodiac is solely used in China it is used throughout most of the eastern Asian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alibri"/>
              </a:rPr>
              <a:t>There is also more to the Zodiac then a yearly cycle there is a monthly, daily and, hourly cycle. (a lot more complicated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fmalany.comuf.com/CIS2281/ChineseZodiac/images/Zodiac_Lg/r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 Rat is the first sign in the zodia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Rats are known for there cha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y  are kind of perfectionis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0000"/>
                </a:solidFill>
                <a:latin typeface="Calibri"/>
              </a:rPr>
              <a:t>They are also gossipers so they s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2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fmalany.comuf.com/CIS2281/ChineseZodiac/images/Zodiac_Lg/ox.jpg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eople born in 1997 and 12 years before, 12 years after are all the ox. It could also keep going if we survive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x’s are patient ,speak little and inspire conf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y are a little stubbo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y also hate to fail and to be opp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fmalany.comuf.com/CIS2281/ChineseZodiac/images/Zodiac_Lg/tig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iger people are sensitive, deep thinkers and capable of great sympat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People have great respect for tiger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However tigers are extremely short temp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iger’s can come into conflict with there elders or the autho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fmalany.comuf.com/CIS2281/ChineseZodiac/images/Zodiac_Lg/rabb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bbit people are articulate, talented and ,ambiti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y are virtuous, reserved and, have excellent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y would also make good gamblers because they have the uncanny talent to pick the right thing yet they don’t because they are conservative and w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://fmalany.comuf.com/CIS2281/ChineseZodiac/images/Zodiac_Lg/drag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1532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People born the year of the dragon are healthy, energetic and, short temp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They are also honest, brave and inspire tr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They also never borrow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fmalany.comuf.com/CIS2281/ChineseZodiac/images/Zodiac_Lg/sn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48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nake people are d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say little and are very w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are also vain and a bit stin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nakes are also said to be financially lu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(like Donald trum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50000"/>
              <a:buFont typeface="Wingdings 2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6:03:28Z</dcterms:created>
  <dc:creator>luis ramirez</dc:creator>
  <dc:description/>
  <dc:language>en-US</dc:language>
  <cp:lastModifiedBy>GRRL Public Internet</cp:lastModifiedBy>
  <dcterms:modified xsi:type="dcterms:W3CDTF">2011-05-24T22:18:21Z</dcterms:modified>
  <cp:revision>30</cp:revision>
  <dc:subject/>
  <dc:title>Chinese Zodiac</dc:title>
</cp:coreProperties>
</file>